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24.png" ContentType="image/png"/>
  <Override PartName="/ppt/media/image18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A0DC-A34D-48E7-9E2E-E4768EED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33D-FFA0-4A4F-A952-2B031722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3BAC-21CB-47CF-ACDE-F68A7694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8E3C-83C7-4399-BFCC-A5197E20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C0C5-A24A-430A-9C10-5DE47CBF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6752-60C6-455B-8456-F5B70E20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3682-D2A2-4093-A6C7-E15E8884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53C-3241-4E7A-91C0-F4ABDAC0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4B53-4A50-41E8-B8BE-6D5D8FF9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63FF-8C2D-4CF9-A926-D9DFA2FA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B97-DFA7-4CAE-9B14-2A5D3A8B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FD8C-88C5-4748-845E-01040A38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8942-1463-4FED-830F-5B042E607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" Target=""/><Relationship Id="rId8" Type="http://schemas.openxmlformats.org/officeDocument/2006/relationships/image" Target="../media/image1.jpeg"/><Relationship Id="rId9" Type="http://schemas.openxmlformats.org/officeDocument/2006/relationships/slide" Target=""/><Relationship Id="rId10" Type="http://schemas.openxmlformats.org/officeDocument/2006/relationships/image" Target="../media/image1.jpeg"/><Relationship Id="rId11" Type="http://schemas.openxmlformats.org/officeDocument/2006/relationships/slide" Target="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" Target=""/><Relationship Id="rId8" Type="http://schemas.openxmlformats.org/officeDocument/2006/relationships/image" Target="../media/image1.jpeg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" Target=""/><Relationship Id="rId8" Type="http://schemas.openxmlformats.org/officeDocument/2006/relationships/image" Target="../media/image1.jpeg"/><Relationship Id="rId9" Type="http://schemas.openxmlformats.org/officeDocument/2006/relationships/slide" Target=""/><Relationship Id="rId10" Type="http://schemas.openxmlformats.org/officeDocument/2006/relationships/image" Target="../media/image1.jpeg"/><Relationship Id="rId11" Type="http://schemas.openxmlformats.org/officeDocument/2006/relationships/slide" Target="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" Target="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" Target=""/><Relationship Id="rId8" Type="http://schemas.openxmlformats.org/officeDocument/2006/relationships/image" Target="../media/image1.jpeg"/><Relationship Id="rId9" Type="http://schemas.openxmlformats.org/officeDocument/2006/relationships/slide" Target="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" Target=""/><Relationship Id="rId8" Type="http://schemas.openxmlformats.org/officeDocument/2006/relationships/image" Target="../media/image1.jpeg"/><Relationship Id="rId9" Type="http://schemas.openxmlformats.org/officeDocument/2006/relationships/slide" Target=""/><Relationship Id="rId10" Type="http://schemas.openxmlformats.org/officeDocument/2006/relationships/image" Target="../media/image1.jpeg"/><Relationship Id="rId11" Type="http://schemas.openxmlformats.org/officeDocument/2006/relationships/slide" Target=""/><Relationship Id="rId12" Type="http://schemas.openxmlformats.org/officeDocument/2006/relationships/image" Target="../media/image1.jpeg"/><Relationship Id="rId13" Type="http://schemas.openxmlformats.org/officeDocument/2006/relationships/slide" Target="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" Target=""/><Relationship Id="rId8" Type="http://schemas.openxmlformats.org/officeDocument/2006/relationships/image" Target="../media/image1.jpeg"/><Relationship Id="rId9" Type="http://schemas.openxmlformats.org/officeDocument/2006/relationships/slide" Target="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" Target="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" Target="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981080" y="838080"/>
            <a:ext cx="5715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Vowel Digraph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28600" y="6095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d by Mrs. Dixon, 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8"/>
          <p:cNvSpPr/>
          <p:nvPr/>
        </p:nvSpPr>
        <p:spPr>
          <a:xfrm>
            <a:off x="7467480" y="5562720"/>
            <a:ext cx="1676520" cy="1295280"/>
          </a:xfrm>
          <a:prstGeom prst="rightArrow">
            <a:avLst>
              <a:gd name="adj1" fmla="val 50000"/>
              <a:gd name="adj2" fmla="val 3235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1828800" y="44197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ad each word. Then click on the book under the word to see that word in a sentenc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7"/>
          <p:cNvSpPr txBox="1"/>
          <p:nvPr/>
        </p:nvSpPr>
        <p:spPr>
          <a:xfrm>
            <a:off x="2590920" y="2133720"/>
            <a:ext cx="28191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6" name="WordArt 18"/>
          <p:cNvSpPr txBox="1"/>
          <p:nvPr/>
        </p:nvSpPr>
        <p:spPr>
          <a:xfrm>
            <a:off x="2590920" y="3352680"/>
            <a:ext cx="28191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7" name="Text Box 19"/>
          <p:cNvSpPr/>
          <p:nvPr/>
        </p:nvSpPr>
        <p:spPr>
          <a:xfrm>
            <a:off x="5638680" y="2286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zo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0"/>
          <p:cNvSpPr/>
          <p:nvPr/>
        </p:nvSpPr>
        <p:spPr>
          <a:xfrm>
            <a:off x="5715000" y="342900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 fo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4648320" y="6019920"/>
            <a:ext cx="22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te: Make sure you click on the book and not the background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9"/>
          <p:cNvSpPr txBox="1"/>
          <p:nvPr/>
        </p:nvSpPr>
        <p:spPr>
          <a:xfrm>
            <a:off x="533520" y="22096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h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9" name="WordArt 10"/>
          <p:cNvSpPr txBox="1"/>
          <p:nvPr/>
        </p:nvSpPr>
        <p:spPr>
          <a:xfrm>
            <a:off x="3200400" y="1371600"/>
            <a:ext cx="1523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0" name="WordArt 11"/>
          <p:cNvSpPr txBox="1"/>
          <p:nvPr/>
        </p:nvSpPr>
        <p:spPr>
          <a:xfrm>
            <a:off x="2362320" y="3886200"/>
            <a:ext cx="1447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1" name="WordArt 12"/>
          <p:cNvSpPr txBox="1"/>
          <p:nvPr/>
        </p:nvSpPr>
        <p:spPr>
          <a:xfrm>
            <a:off x="5410080" y="2514600"/>
            <a:ext cx="1524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2" name="WordArt 13"/>
          <p:cNvSpPr txBox="1"/>
          <p:nvPr/>
        </p:nvSpPr>
        <p:spPr>
          <a:xfrm>
            <a:off x="655308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foot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3" name="WordArt 14"/>
          <p:cNvSpPr txBox="1"/>
          <p:nvPr/>
        </p:nvSpPr>
        <p:spPr>
          <a:xfrm>
            <a:off x="5181480" y="47242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64" name="Picture 16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2362320"/>
            <a:ext cx="1218960" cy="59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" descr="book 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81680" y="1523880"/>
            <a:ext cx="1219320" cy="5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book 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2120" y="3429000"/>
            <a:ext cx="1218960" cy="593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book 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562720" y="3505320"/>
            <a:ext cx="1218960" cy="59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1" descr="book 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438280" y="4952880"/>
            <a:ext cx="1219320" cy="59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2" descr="book 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486400" y="5867280"/>
            <a:ext cx="1219320" cy="59400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23">
            <a:hlinkClick r:id="" action="ppaction://hlinkshowjump?jump=nextslide"/>
          </p:cNvPr>
          <p:cNvSpPr/>
          <p:nvPr/>
        </p:nvSpPr>
        <p:spPr>
          <a:xfrm>
            <a:off x="7696080" y="5715000"/>
            <a:ext cx="144792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7772400" y="4800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rrow to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28"/>
          <p:cNvSpPr txBox="1"/>
          <p:nvPr/>
        </p:nvSpPr>
        <p:spPr>
          <a:xfrm>
            <a:off x="228600" y="380880"/>
            <a:ext cx="281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3" name="Freeform 30"/>
          <p:cNvSpPr/>
          <p:nvPr/>
        </p:nvSpPr>
        <p:spPr>
          <a:xfrm>
            <a:off x="1905120" y="304920"/>
            <a:ext cx="609480" cy="1648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5"/>
          <p:cNvSpPr txBox="1"/>
          <p:nvPr/>
        </p:nvSpPr>
        <p:spPr>
          <a:xfrm>
            <a:off x="3657600" y="33526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r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5" name="WordArt 7"/>
          <p:cNvSpPr txBox="1"/>
          <p:nvPr/>
        </p:nvSpPr>
        <p:spPr>
          <a:xfrm>
            <a:off x="914400" y="190512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h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6" name="WordArt 8"/>
          <p:cNvSpPr txBox="1"/>
          <p:nvPr/>
        </p:nvSpPr>
        <p:spPr>
          <a:xfrm>
            <a:off x="6172200" y="137160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r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77" name="Picture 9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86200" y="4648320"/>
            <a:ext cx="1219320" cy="593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book 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66680" y="3048120"/>
            <a:ext cx="1219320" cy="593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book 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553080" y="2514600"/>
            <a:ext cx="1219320" cy="59364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15">
            <a:hlinkClick r:id="" action="ppaction://hlinkshowjump?jump=nextslide"/>
          </p:cNvPr>
          <p:cNvSpPr/>
          <p:nvPr/>
        </p:nvSpPr>
        <p:spPr>
          <a:xfrm>
            <a:off x="7696080" y="5715000"/>
            <a:ext cx="144792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7772400" y="4800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rrow to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18"/>
          <p:cNvSpPr txBox="1"/>
          <p:nvPr/>
        </p:nvSpPr>
        <p:spPr>
          <a:xfrm>
            <a:off x="228600" y="380880"/>
            <a:ext cx="281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3" name="Freeform 19"/>
          <p:cNvSpPr/>
          <p:nvPr/>
        </p:nvSpPr>
        <p:spPr>
          <a:xfrm>
            <a:off x="1905120" y="304920"/>
            <a:ext cx="609480" cy="1648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3"/>
          <p:cNvSpPr txBox="1"/>
          <p:nvPr/>
        </p:nvSpPr>
        <p:spPr>
          <a:xfrm>
            <a:off x="3962520" y="3809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tood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5" name="WordArt 5"/>
          <p:cNvSpPr txBox="1"/>
          <p:nvPr/>
        </p:nvSpPr>
        <p:spPr>
          <a:xfrm>
            <a:off x="3200400" y="1295280"/>
            <a:ext cx="1676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good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6" name="WordArt 7"/>
          <p:cNvSpPr txBox="1"/>
          <p:nvPr/>
        </p:nvSpPr>
        <p:spPr>
          <a:xfrm>
            <a:off x="762120" y="327672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wood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7" name="WordArt 8"/>
          <p:cNvSpPr txBox="1"/>
          <p:nvPr/>
        </p:nvSpPr>
        <p:spPr>
          <a:xfrm>
            <a:off x="6172200" y="1523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hood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88" name="Picture 10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2286000"/>
            <a:ext cx="1219320" cy="593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book 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2666880"/>
            <a:ext cx="1219320" cy="594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book 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990720" y="4419720"/>
            <a:ext cx="1218960" cy="59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4" descr="book 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191120" y="5105520"/>
            <a:ext cx="1218960" cy="59364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17">
            <a:hlinkClick r:id="rId9" action="ppaction://hlinksldjump"/>
          </p:cNvPr>
          <p:cNvSpPr/>
          <p:nvPr/>
        </p:nvSpPr>
        <p:spPr>
          <a:xfrm>
            <a:off x="7696080" y="5715000"/>
            <a:ext cx="144792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7772400" y="4800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rrow to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22"/>
          <p:cNvSpPr txBox="1"/>
          <p:nvPr/>
        </p:nvSpPr>
        <p:spPr>
          <a:xfrm>
            <a:off x="228600" y="380880"/>
            <a:ext cx="281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5" name="Freeform 23"/>
          <p:cNvSpPr/>
          <p:nvPr/>
        </p:nvSpPr>
        <p:spPr>
          <a:xfrm>
            <a:off x="1905120" y="304920"/>
            <a:ext cx="609480" cy="1648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197" name="WordArt 5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zoo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09480" y="19051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ur class visited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zo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2" descr="zoo"/>
          <p:cNvPicPr/>
          <p:nvPr/>
        </p:nvPicPr>
        <p:blipFill>
          <a:blip r:embed="rId3"/>
          <a:stretch/>
        </p:blipFill>
        <p:spPr>
          <a:xfrm>
            <a:off x="3276720" y="2895480"/>
            <a:ext cx="28447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8148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02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oo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09480" y="19810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d Casper the Ghost scare you with his “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o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”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casper"/>
          <p:cNvPicPr/>
          <p:nvPr/>
        </p:nvPicPr>
        <p:blipFill>
          <a:blip r:embed="rId3"/>
          <a:stretch/>
        </p:blipFill>
        <p:spPr>
          <a:xfrm>
            <a:off x="3809880" y="2971800"/>
            <a:ext cx="164016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07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oo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609480" y="19051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soft cry of a dove or pigeon is “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pigeon"/>
          <p:cNvPicPr/>
          <p:nvPr/>
        </p:nvPicPr>
        <p:blipFill>
          <a:blip r:embed="rId3"/>
          <a:stretch/>
        </p:blipFill>
        <p:spPr>
          <a:xfrm>
            <a:off x="3352680" y="2895480"/>
            <a:ext cx="2603520" cy="19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12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moo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685800" y="1600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tsy, the cow, says “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o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1" descr="cow"/>
          <p:cNvPicPr/>
          <p:nvPr/>
        </p:nvPicPr>
        <p:blipFill>
          <a:blip r:embed="rId3"/>
          <a:stretch/>
        </p:blipFill>
        <p:spPr>
          <a:xfrm>
            <a:off x="3886200" y="2590920"/>
            <a:ext cx="1504800" cy="23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17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food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685800" y="1600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y favorit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oo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pizz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pizza"/>
          <p:cNvPicPr/>
          <p:nvPr/>
        </p:nvPicPr>
        <p:blipFill>
          <a:blip r:embed="rId3"/>
          <a:stretch/>
        </p:blipFill>
        <p:spPr>
          <a:xfrm>
            <a:off x="3657600" y="2971800"/>
            <a:ext cx="192420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22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mood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85800" y="1600200"/>
            <a:ext cx="81532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kind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oo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you in toda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od: a conscious and emotional state of mind or fee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5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mood"/>
          <p:cNvPicPr/>
          <p:nvPr/>
        </p:nvPicPr>
        <p:blipFill>
          <a:blip r:embed="rId3"/>
          <a:stretch/>
        </p:blipFill>
        <p:spPr>
          <a:xfrm>
            <a:off x="3276720" y="3048120"/>
            <a:ext cx="2806560" cy="17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27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roof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09480" y="17524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oo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n the house is pink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1" descr="roof"/>
          <p:cNvPicPr/>
          <p:nvPr/>
        </p:nvPicPr>
        <p:blipFill>
          <a:blip r:embed="rId3"/>
          <a:stretch/>
        </p:blipFill>
        <p:spPr>
          <a:xfrm>
            <a:off x="3581280" y="3200400"/>
            <a:ext cx="192420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4952880" y="274320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moo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914400" y="2057400"/>
            <a:ext cx="1447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oo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3657600" y="762120"/>
            <a:ext cx="1447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zoo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" name="WordArt 12"/>
          <p:cNvSpPr txBox="1"/>
          <p:nvPr/>
        </p:nvSpPr>
        <p:spPr>
          <a:xfrm>
            <a:off x="6477120" y="8380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oo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4" name="Picture 13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33920" y="1828800"/>
            <a:ext cx="1218960" cy="59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book 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81680" y="1981080"/>
            <a:ext cx="1219320" cy="59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ok 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66680" y="3124080"/>
            <a:ext cx="1219320" cy="59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book 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029200" y="3733920"/>
            <a:ext cx="1219320" cy="59364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20">
            <a:hlinkClick r:id="" action="ppaction://hlinkshowjump?jump=nextslide"/>
          </p:cNvPr>
          <p:cNvSpPr/>
          <p:nvPr/>
        </p:nvSpPr>
        <p:spPr>
          <a:xfrm>
            <a:off x="7696080" y="5715000"/>
            <a:ext cx="144792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772400" y="4800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rrow to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981080" y="3808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3"/>
          <p:cNvSpPr txBox="1"/>
          <p:nvPr/>
        </p:nvSpPr>
        <p:spPr>
          <a:xfrm>
            <a:off x="228600" y="380880"/>
            <a:ext cx="281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" name="WordArt 24"/>
          <p:cNvSpPr txBox="1"/>
          <p:nvPr/>
        </p:nvSpPr>
        <p:spPr>
          <a:xfrm>
            <a:off x="2057400" y="4114800"/>
            <a:ext cx="1523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mood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3" name="Picture 25" descr="book 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209680" y="5257800"/>
            <a:ext cx="1219320" cy="593640"/>
          </a:xfrm>
          <a:prstGeom prst="rect">
            <a:avLst/>
          </a:prstGeom>
          <a:ln w="0">
            <a:noFill/>
          </a:ln>
        </p:spPr>
      </p:pic>
      <p:sp>
        <p:nvSpPr>
          <p:cNvPr id="64" name="WordArt 26"/>
          <p:cNvSpPr txBox="1"/>
          <p:nvPr/>
        </p:nvSpPr>
        <p:spPr>
          <a:xfrm>
            <a:off x="4952880" y="464832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food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5" name="Picture 27" descr="book 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029200" y="5638680"/>
            <a:ext cx="1219320" cy="5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25780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32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proof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57200" y="1905120"/>
            <a:ext cx="815328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r drivers license show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oo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her a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of: an act of showing or finding out that something is 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9" descr="proof"/>
          <p:cNvPicPr/>
          <p:nvPr/>
        </p:nvPicPr>
        <p:blipFill>
          <a:blip r:embed="rId3"/>
          <a:stretch/>
        </p:blipFill>
        <p:spPr>
          <a:xfrm>
            <a:off x="3733920" y="3657600"/>
            <a:ext cx="1904760" cy="14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37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ooth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09480" y="17524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y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oo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urt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9" descr="tooth"/>
          <p:cNvPicPr/>
          <p:nvPr/>
        </p:nvPicPr>
        <p:blipFill>
          <a:blip r:embed="rId3"/>
          <a:stretch/>
        </p:blipFill>
        <p:spPr>
          <a:xfrm>
            <a:off x="3733920" y="2895480"/>
            <a:ext cx="1873080" cy="20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42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ooth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533520" y="1905120"/>
            <a:ext cx="815328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m was in charge of the Informatio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oo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t the fai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th: a covered st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0" descr="booth"/>
          <p:cNvPicPr/>
          <p:nvPr/>
        </p:nvPicPr>
        <p:blipFill>
          <a:blip r:embed="rId3"/>
          <a:stretch/>
        </p:blipFill>
        <p:spPr>
          <a:xfrm>
            <a:off x="3733920" y="3429000"/>
            <a:ext cx="1989000" cy="14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47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oot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609480" y="17524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soldiers have to keep thei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oot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hinn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3" descr="boots"/>
          <p:cNvPicPr/>
          <p:nvPr/>
        </p:nvPicPr>
        <p:blipFill>
          <a:blip r:embed="rId3"/>
          <a:stretch/>
        </p:blipFill>
        <p:spPr>
          <a:xfrm>
            <a:off x="3581280" y="3124080"/>
            <a:ext cx="2190960" cy="18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52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root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609480" y="1752480"/>
            <a:ext cx="815364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ke sure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oo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deep in the groun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: the leafless underground part of a plant that absorbs and stores water and minerals and holds the plant in pl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5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roots"/>
          <p:cNvPicPr/>
          <p:nvPr/>
        </p:nvPicPr>
        <p:blipFill>
          <a:blip r:embed="rId3"/>
          <a:stretch/>
        </p:blipFill>
        <p:spPr>
          <a:xfrm>
            <a:off x="990720" y="3886200"/>
            <a:ext cx="1584360" cy="2590920"/>
          </a:xfrm>
          <a:prstGeom prst="rect">
            <a:avLst/>
          </a:prstGeom>
          <a:ln w="0">
            <a:noFill/>
          </a:ln>
        </p:spPr>
      </p:pic>
      <p:sp>
        <p:nvSpPr>
          <p:cNvPr id="256" name="Line 8"/>
          <p:cNvSpPr/>
          <p:nvPr/>
        </p:nvSpPr>
        <p:spPr>
          <a:xfrm flipV="1">
            <a:off x="228600" y="617184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58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hoot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609480" y="1828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d you hear the owl “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oo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”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9" descr="hoot"/>
          <p:cNvPicPr/>
          <p:nvPr/>
        </p:nvPicPr>
        <p:blipFill>
          <a:blip r:embed="rId3"/>
          <a:stretch/>
        </p:blipFill>
        <p:spPr>
          <a:xfrm>
            <a:off x="3809880" y="2743200"/>
            <a:ext cx="161928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63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oot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533520" y="1752480"/>
            <a:ext cx="815328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 many times did you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oo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e hor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t: a short bl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1" descr="toot"/>
          <p:cNvPicPr/>
          <p:nvPr/>
        </p:nvPicPr>
        <p:blipFill>
          <a:blip r:embed="rId3"/>
          <a:stretch/>
        </p:blipFill>
        <p:spPr>
          <a:xfrm>
            <a:off x="3581280" y="3152880"/>
            <a:ext cx="1905120" cy="16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68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hoot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685800" y="1828800"/>
            <a:ext cx="81532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ad taught me to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hoo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e arro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ot: to let fly or cause to be driven forward with fo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1" descr="shoot"/>
          <p:cNvPicPr/>
          <p:nvPr/>
        </p:nvPicPr>
        <p:blipFill>
          <a:blip r:embed="rId3"/>
          <a:stretch/>
        </p:blipFill>
        <p:spPr>
          <a:xfrm>
            <a:off x="3581280" y="3429000"/>
            <a:ext cx="2210040" cy="14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73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p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609480" y="1828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hotel had a big swimming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oo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1" descr="pools"/>
          <p:cNvPicPr/>
          <p:nvPr/>
        </p:nvPicPr>
        <p:blipFill>
          <a:blip r:embed="rId3"/>
          <a:stretch/>
        </p:blipFill>
        <p:spPr>
          <a:xfrm>
            <a:off x="3276720" y="3124080"/>
            <a:ext cx="285120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78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609480" y="19051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fan will help keep the room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o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fans"/>
          <p:cNvPicPr/>
          <p:nvPr/>
        </p:nvPicPr>
        <p:blipFill>
          <a:blip r:embed="rId3"/>
          <a:stretch/>
        </p:blipFill>
        <p:spPr>
          <a:xfrm>
            <a:off x="3505320" y="320040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>
            <a:off x="4876920" y="411480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ooth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WordArt 3"/>
          <p:cNvSpPr txBox="1"/>
          <p:nvPr/>
        </p:nvSpPr>
        <p:spPr>
          <a:xfrm>
            <a:off x="1371600" y="33526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ooth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3276720" y="1447920"/>
            <a:ext cx="1752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roof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6477120" y="8380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proof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0" name="Picture 6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29000" y="2362320"/>
            <a:ext cx="1219320" cy="59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book 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81680" y="1981080"/>
            <a:ext cx="1219320" cy="59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book 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600200" y="4572000"/>
            <a:ext cx="1219320" cy="593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book 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105520" y="5334120"/>
            <a:ext cx="1218960" cy="59364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0">
            <a:hlinkClick r:id="" action="ppaction://hlinkshowjump?jump=nextslide"/>
          </p:cNvPr>
          <p:cNvSpPr/>
          <p:nvPr/>
        </p:nvSpPr>
        <p:spPr>
          <a:xfrm>
            <a:off x="7696080" y="5715000"/>
            <a:ext cx="144792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7772400" y="4800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rrow to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1981080" y="3808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3"/>
          <p:cNvSpPr txBox="1"/>
          <p:nvPr/>
        </p:nvSpPr>
        <p:spPr>
          <a:xfrm>
            <a:off x="228600" y="380880"/>
            <a:ext cx="281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05320" y="5486400"/>
            <a:ext cx="2361960" cy="1149480"/>
          </a:xfrm>
          <a:prstGeom prst="rect">
            <a:avLst/>
          </a:prstGeom>
          <a:ln w="0">
            <a:noFill/>
          </a:ln>
        </p:spPr>
      </p:pic>
      <p:sp>
        <p:nvSpPr>
          <p:cNvPr id="283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f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228600" y="1600200"/>
            <a:ext cx="81532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 shouldn’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oo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ound in schoo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l: to spend time id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0" y="3809880"/>
            <a:ext cx="815328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lot of people ar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ool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n April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ool’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Da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ol: one who is trick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0" descr="fool1"/>
          <p:cNvPicPr/>
          <p:nvPr/>
        </p:nvPicPr>
        <p:blipFill>
          <a:blip r:embed="rId3"/>
          <a:stretch/>
        </p:blipFill>
        <p:spPr>
          <a:xfrm>
            <a:off x="3886200" y="2133720"/>
            <a:ext cx="1336680" cy="1523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april fool"/>
          <p:cNvPicPr/>
          <p:nvPr/>
        </p:nvPicPr>
        <p:blipFill>
          <a:blip r:embed="rId4"/>
          <a:stretch/>
        </p:blipFill>
        <p:spPr>
          <a:xfrm>
            <a:off x="380880" y="4572000"/>
            <a:ext cx="1079640" cy="12193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2" descr="april fool 2"/>
          <p:cNvPicPr/>
          <p:nvPr/>
        </p:nvPicPr>
        <p:blipFill>
          <a:blip r:embed="rId5"/>
          <a:stretch/>
        </p:blipFill>
        <p:spPr>
          <a:xfrm>
            <a:off x="1676520" y="5257800"/>
            <a:ext cx="914400" cy="12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91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33520" y="1828800"/>
            <a:ext cx="815328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ad has a new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oo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x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: a device (as a hammer, saw, knife, or wrench) used or worked by hand or by a machine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tools"/>
          <p:cNvPicPr/>
          <p:nvPr/>
        </p:nvPicPr>
        <p:blipFill>
          <a:blip r:embed="rId3"/>
          <a:stretch/>
        </p:blipFill>
        <p:spPr>
          <a:xfrm>
            <a:off x="3581280" y="3352680"/>
            <a:ext cx="2057400" cy="15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296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dr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85800" y="1752480"/>
            <a:ext cx="81532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bie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roo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n they are cutting teeth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ol: to let saliva or some other substance flow from the mout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1" descr="drools"/>
          <p:cNvPicPr/>
          <p:nvPr/>
        </p:nvPicPr>
        <p:blipFill>
          <a:blip r:embed="rId3"/>
          <a:stretch/>
        </p:blipFill>
        <p:spPr>
          <a:xfrm>
            <a:off x="3657600" y="3352680"/>
            <a:ext cx="2057400" cy="15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01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ch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533520" y="18288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 attend Stowers Elementary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choo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9" descr="StowersES%201"/>
          <p:cNvPicPr/>
          <p:nvPr/>
        </p:nvPicPr>
        <p:blipFill>
          <a:blip r:embed="rId3"/>
          <a:stretch/>
        </p:blipFill>
        <p:spPr>
          <a:xfrm>
            <a:off x="1905120" y="2666880"/>
            <a:ext cx="584820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448240"/>
            <a:ext cx="259092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t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609480" y="19810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m stood on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oo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o that she could reach the top shelf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" descr="stool"/>
          <p:cNvPicPr/>
          <p:nvPr/>
        </p:nvPicPr>
        <p:blipFill>
          <a:blip r:embed="rId3"/>
          <a:stretch/>
        </p:blipFill>
        <p:spPr>
          <a:xfrm>
            <a:off x="3962520" y="3200400"/>
            <a:ext cx="1217520" cy="20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11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hoop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533520" y="1828800"/>
            <a:ext cx="815328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students love to hul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oop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op: A circular obj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1" descr="hoop"/>
          <p:cNvPicPr/>
          <p:nvPr/>
        </p:nvPicPr>
        <p:blipFill>
          <a:blip r:embed="rId3"/>
          <a:stretch/>
        </p:blipFill>
        <p:spPr>
          <a:xfrm>
            <a:off x="1295280" y="28195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2" descr="hoop2"/>
          <p:cNvPicPr/>
          <p:nvPr/>
        </p:nvPicPr>
        <p:blipFill>
          <a:blip r:embed="rId4"/>
          <a:stretch/>
        </p:blipFill>
        <p:spPr>
          <a:xfrm>
            <a:off x="3657600" y="3276720"/>
            <a:ext cx="1905120" cy="1454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3" descr="hoop3"/>
          <p:cNvPicPr/>
          <p:nvPr/>
        </p:nvPicPr>
        <p:blipFill>
          <a:blip r:embed="rId5"/>
          <a:stretch/>
        </p:blipFill>
        <p:spPr>
          <a:xfrm>
            <a:off x="6400800" y="2895480"/>
            <a:ext cx="148284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18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oop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533520" y="1752480"/>
            <a:ext cx="81532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se are different kinds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oop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: to repeat or double 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" descr="loop2"/>
          <p:cNvPicPr/>
          <p:nvPr/>
        </p:nvPicPr>
        <p:blipFill>
          <a:blip r:embed="rId3"/>
          <a:stretch/>
        </p:blipFill>
        <p:spPr>
          <a:xfrm>
            <a:off x="609480" y="29718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loop3"/>
          <p:cNvPicPr/>
          <p:nvPr/>
        </p:nvPicPr>
        <p:blipFill>
          <a:blip r:embed="rId4"/>
          <a:stretch/>
        </p:blipFill>
        <p:spPr>
          <a:xfrm>
            <a:off x="4876920" y="3962520"/>
            <a:ext cx="1676160" cy="8888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loop4"/>
          <p:cNvPicPr/>
          <p:nvPr/>
        </p:nvPicPr>
        <p:blipFill>
          <a:blip r:embed="rId5"/>
          <a:stretch/>
        </p:blipFill>
        <p:spPr>
          <a:xfrm>
            <a:off x="762120" y="5105520"/>
            <a:ext cx="1447560" cy="974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" descr="loop6"/>
          <p:cNvPicPr/>
          <p:nvPr/>
        </p:nvPicPr>
        <p:blipFill>
          <a:blip r:embed="rId6"/>
          <a:stretch/>
        </p:blipFill>
        <p:spPr>
          <a:xfrm>
            <a:off x="7238880" y="2514600"/>
            <a:ext cx="1422360" cy="1066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4" descr="loop54"/>
          <p:cNvPicPr/>
          <p:nvPr/>
        </p:nvPicPr>
        <p:blipFill>
          <a:blip r:embed="rId7"/>
          <a:stretch/>
        </p:blipFill>
        <p:spPr>
          <a:xfrm>
            <a:off x="4419720" y="2590920"/>
            <a:ext cx="909360" cy="1143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5" descr="loops"/>
          <p:cNvPicPr/>
          <p:nvPr/>
        </p:nvPicPr>
        <p:blipFill>
          <a:blip r:embed="rId8"/>
          <a:stretch/>
        </p:blipFill>
        <p:spPr>
          <a:xfrm>
            <a:off x="2438280" y="3124080"/>
            <a:ext cx="1168560" cy="17654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6" descr="plane loops"/>
          <p:cNvPicPr/>
          <p:nvPr/>
        </p:nvPicPr>
        <p:blipFill>
          <a:blip r:embed="rId9"/>
          <a:stretch/>
        </p:blipFill>
        <p:spPr>
          <a:xfrm>
            <a:off x="7086600" y="3962520"/>
            <a:ext cx="1397160" cy="14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29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coop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990720" y="1905120"/>
            <a:ext cx="73152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m used a big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coop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make our ice cream cone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oop: a round utensil with a handle for dipping out soft fo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9" descr="scoop"/>
          <p:cNvPicPr/>
          <p:nvPr/>
        </p:nvPicPr>
        <p:blipFill>
          <a:blip r:embed="rId3"/>
          <a:stretch/>
        </p:blipFill>
        <p:spPr>
          <a:xfrm>
            <a:off x="1371600" y="373392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0" descr="scoop2"/>
          <p:cNvPicPr/>
          <p:nvPr/>
        </p:nvPicPr>
        <p:blipFill>
          <a:blip r:embed="rId4"/>
          <a:stretch/>
        </p:blipFill>
        <p:spPr>
          <a:xfrm>
            <a:off x="6477120" y="3809880"/>
            <a:ext cx="11379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35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toop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380880" y="1676520"/>
            <a:ext cx="81536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Umpire had to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oop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pick up the baseball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op: to bend down or ov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stoop1"/>
          <p:cNvPicPr/>
          <p:nvPr/>
        </p:nvPicPr>
        <p:blipFill>
          <a:blip r:embed="rId3"/>
          <a:stretch/>
        </p:blipFill>
        <p:spPr>
          <a:xfrm>
            <a:off x="4114800" y="2895480"/>
            <a:ext cx="1523880" cy="20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40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roop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04920" y="1905120"/>
            <a:ext cx="845820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y and Sally joined a Girl Scou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roop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roop: a un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9" descr="troop1"/>
          <p:cNvPicPr/>
          <p:nvPr/>
        </p:nvPicPr>
        <p:blipFill>
          <a:blip r:embed="rId3"/>
          <a:stretch/>
        </p:blipFill>
        <p:spPr>
          <a:xfrm>
            <a:off x="3809880" y="320040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6"/>
          <p:cNvSpPr txBox="1"/>
          <p:nvPr/>
        </p:nvSpPr>
        <p:spPr>
          <a:xfrm>
            <a:off x="1066680" y="1981080"/>
            <a:ext cx="1371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root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9" name="Picture 14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43000" y="2895480"/>
            <a:ext cx="1219320" cy="594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7">
            <a:hlinkClick r:id="" action="ppaction://hlinkshowjump?jump=nextslide"/>
          </p:cNvPr>
          <p:cNvSpPr/>
          <p:nvPr/>
        </p:nvSpPr>
        <p:spPr>
          <a:xfrm>
            <a:off x="7696080" y="5715000"/>
            <a:ext cx="144792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6172200" y="57150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rrow to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1"/>
          <p:cNvSpPr txBox="1"/>
          <p:nvPr/>
        </p:nvSpPr>
        <p:spPr>
          <a:xfrm>
            <a:off x="3886200" y="31240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hoot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3" name="Picture 22" descr="book 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191120" y="4267080"/>
            <a:ext cx="1218960" cy="594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23"/>
          <p:cNvSpPr txBox="1"/>
          <p:nvPr/>
        </p:nvSpPr>
        <p:spPr>
          <a:xfrm>
            <a:off x="5105520" y="990720"/>
            <a:ext cx="1447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oot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5" name="Picture 24" descr="book 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57800" y="2057400"/>
            <a:ext cx="1219320" cy="593640"/>
          </a:xfrm>
          <a:prstGeom prst="rect">
            <a:avLst/>
          </a:prstGeom>
          <a:ln w="0">
            <a:noFill/>
          </a:ln>
        </p:spPr>
      </p:pic>
      <p:sp>
        <p:nvSpPr>
          <p:cNvPr id="86" name="WordArt 27"/>
          <p:cNvSpPr txBox="1"/>
          <p:nvPr/>
        </p:nvSpPr>
        <p:spPr>
          <a:xfrm>
            <a:off x="1143000" y="44956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oot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7" name="Picture 28" descr="book 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219320" y="5715000"/>
            <a:ext cx="1218960" cy="593640"/>
          </a:xfrm>
          <a:prstGeom prst="rect">
            <a:avLst/>
          </a:prstGeom>
          <a:ln w="0">
            <a:noFill/>
          </a:ln>
        </p:spPr>
      </p:pic>
      <p:sp>
        <p:nvSpPr>
          <p:cNvPr id="88" name="Line 29"/>
          <p:cNvSpPr/>
          <p:nvPr/>
        </p:nvSpPr>
        <p:spPr>
          <a:xfrm>
            <a:off x="1981080" y="3808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30"/>
          <p:cNvSpPr txBox="1"/>
          <p:nvPr/>
        </p:nvSpPr>
        <p:spPr>
          <a:xfrm>
            <a:off x="228600" y="380880"/>
            <a:ext cx="281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0" name="WordArt 31"/>
          <p:cNvSpPr txBox="1"/>
          <p:nvPr/>
        </p:nvSpPr>
        <p:spPr>
          <a:xfrm>
            <a:off x="6781680" y="327672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hoot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1" name="Picture 32" descr="book 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086600" y="4419720"/>
            <a:ext cx="121932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45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room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609480" y="19051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rtha sweeps the floor with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roo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7" descr="broom"/>
          <p:cNvPicPr/>
          <p:nvPr/>
        </p:nvPicPr>
        <p:blipFill>
          <a:blip r:embed="rId3"/>
          <a:stretch/>
        </p:blipFill>
        <p:spPr>
          <a:xfrm>
            <a:off x="3962520" y="2819520"/>
            <a:ext cx="1365120" cy="199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50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room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33520" y="20574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ease keep you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oo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lean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7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0" descr="clean"/>
          <p:cNvPicPr/>
          <p:nvPr/>
        </p:nvPicPr>
        <p:blipFill>
          <a:blip r:embed="rId3"/>
          <a:stretch/>
        </p:blipFill>
        <p:spPr>
          <a:xfrm>
            <a:off x="3773520" y="2819520"/>
            <a:ext cx="178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55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loom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533520" y="17524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loo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a flow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8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3" descr="bloom"/>
          <p:cNvPicPr/>
          <p:nvPr/>
        </p:nvPicPr>
        <p:blipFill>
          <a:blip r:embed="rId3"/>
          <a:stretch/>
        </p:blipFill>
        <p:spPr>
          <a:xfrm>
            <a:off x="1523880" y="2895480"/>
            <a:ext cx="2438640" cy="14176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4" descr="bloom1"/>
          <p:cNvPicPr/>
          <p:nvPr/>
        </p:nvPicPr>
        <p:blipFill>
          <a:blip r:embed="rId4"/>
          <a:stretch/>
        </p:blipFill>
        <p:spPr>
          <a:xfrm>
            <a:off x="4952880" y="2895480"/>
            <a:ext cx="2057400" cy="14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61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groom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304920" y="19810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roo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a man that just got marri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2" descr="groom"/>
          <p:cNvPicPr/>
          <p:nvPr/>
        </p:nvPicPr>
        <p:blipFill>
          <a:blip r:embed="rId3"/>
          <a:stretch/>
        </p:blipFill>
        <p:spPr>
          <a:xfrm>
            <a:off x="3886200" y="2819520"/>
            <a:ext cx="138096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66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moon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533520" y="19051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d the cow jump over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o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1" descr="moon2"/>
          <p:cNvPicPr/>
          <p:nvPr/>
        </p:nvPicPr>
        <p:blipFill>
          <a:blip r:embed="rId3"/>
          <a:stretch/>
        </p:blipFill>
        <p:spPr>
          <a:xfrm>
            <a:off x="3809880" y="2895480"/>
            <a:ext cx="152424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71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noon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533520" y="1905120"/>
            <a:ext cx="81532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 eat lunch a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o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on: the middle of the day : 12 o'clock in the daytim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5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6" descr="noon"/>
          <p:cNvPicPr/>
          <p:nvPr/>
        </p:nvPicPr>
        <p:blipFill>
          <a:blip r:embed="rId3"/>
          <a:stretch/>
        </p:blipFill>
        <p:spPr>
          <a:xfrm>
            <a:off x="3809880" y="3276720"/>
            <a:ext cx="1752840" cy="16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76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oon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533520" y="1905120"/>
            <a:ext cx="81532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o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e will go out for reces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on: before l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soon"/>
          <p:cNvPicPr/>
          <p:nvPr/>
        </p:nvPicPr>
        <p:blipFill>
          <a:blip r:embed="rId3"/>
          <a:stretch/>
        </p:blipFill>
        <p:spPr>
          <a:xfrm>
            <a:off x="3581280" y="3352680"/>
            <a:ext cx="2210040" cy="14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81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poon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533520" y="19051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 eat our food with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po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5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spoon"/>
          <p:cNvPicPr/>
          <p:nvPr/>
        </p:nvPicPr>
        <p:blipFill>
          <a:blip r:embed="rId3"/>
          <a:stretch/>
        </p:blipFill>
        <p:spPr>
          <a:xfrm>
            <a:off x="5257800" y="3200400"/>
            <a:ext cx="1892160" cy="1295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spoon2"/>
          <p:cNvPicPr/>
          <p:nvPr/>
        </p:nvPicPr>
        <p:blipFill>
          <a:blip r:embed="rId4"/>
          <a:stretch/>
        </p:blipFill>
        <p:spPr>
          <a:xfrm>
            <a:off x="1905120" y="3429000"/>
            <a:ext cx="16761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87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goose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533520" y="19051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oo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as a long neck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6" descr="goose"/>
          <p:cNvPicPr/>
          <p:nvPr/>
        </p:nvPicPr>
        <p:blipFill>
          <a:blip r:embed="rId2"/>
          <a:stretch/>
        </p:blipFill>
        <p:spPr>
          <a:xfrm>
            <a:off x="3886200" y="3124080"/>
            <a:ext cx="1508040" cy="17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92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oose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533520" y="1905120"/>
            <a:ext cx="81532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dogs go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oo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ran awa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se: not shut in, tied up, or held back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5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6" descr="loose dogs"/>
          <p:cNvPicPr/>
          <p:nvPr/>
        </p:nvPicPr>
        <p:blipFill>
          <a:blip r:embed="rId2"/>
          <a:stretch/>
        </p:blipFill>
        <p:spPr>
          <a:xfrm>
            <a:off x="3657600" y="3581280"/>
            <a:ext cx="2133720" cy="13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609480" y="1447920"/>
            <a:ext cx="1600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3" name="WordArt 12"/>
          <p:cNvSpPr txBox="1"/>
          <p:nvPr/>
        </p:nvSpPr>
        <p:spPr>
          <a:xfrm>
            <a:off x="472428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p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4" name="Picture 14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080" y="2514600"/>
            <a:ext cx="1219320" cy="59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book 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29200" y="1523880"/>
            <a:ext cx="1219320" cy="59400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22">
            <a:hlinkClick r:id="" action="ppaction://hlinkshowjump?jump=nextslide"/>
          </p:cNvPr>
          <p:cNvSpPr/>
          <p:nvPr/>
        </p:nvSpPr>
        <p:spPr>
          <a:xfrm>
            <a:off x="7696080" y="5715000"/>
            <a:ext cx="144792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7772400" y="4800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rrow to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28"/>
          <p:cNvSpPr txBox="1"/>
          <p:nvPr/>
        </p:nvSpPr>
        <p:spPr>
          <a:xfrm>
            <a:off x="3048120" y="47242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dr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9" name="Picture 29" descr="book 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76720" y="5943600"/>
            <a:ext cx="1218960" cy="593640"/>
          </a:xfrm>
          <a:prstGeom prst="rect">
            <a:avLst/>
          </a:prstGeom>
          <a:ln w="0">
            <a:noFill/>
          </a:ln>
        </p:spPr>
      </p:pic>
      <p:sp>
        <p:nvSpPr>
          <p:cNvPr id="100" name="WordArt 32"/>
          <p:cNvSpPr txBox="1"/>
          <p:nvPr/>
        </p:nvSpPr>
        <p:spPr>
          <a:xfrm>
            <a:off x="5410080" y="47242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ch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1" name="WordArt 33"/>
          <p:cNvSpPr txBox="1"/>
          <p:nvPr/>
        </p:nvSpPr>
        <p:spPr>
          <a:xfrm>
            <a:off x="6324480" y="22096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2" name="WordArt 34"/>
          <p:cNvSpPr txBox="1"/>
          <p:nvPr/>
        </p:nvSpPr>
        <p:spPr>
          <a:xfrm>
            <a:off x="3200400" y="236232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f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3" name="Picture 35" descr="book 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629400" y="3429000"/>
            <a:ext cx="1219320" cy="593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6" descr="book 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429000" y="3505320"/>
            <a:ext cx="1219320" cy="59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7" descr="book 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715000" y="5943600"/>
            <a:ext cx="1219320" cy="593640"/>
          </a:xfrm>
          <a:prstGeom prst="rect">
            <a:avLst/>
          </a:prstGeom>
          <a:ln w="0">
            <a:noFill/>
          </a:ln>
        </p:spPr>
      </p:pic>
      <p:sp>
        <p:nvSpPr>
          <p:cNvPr id="106" name="Line 38"/>
          <p:cNvSpPr/>
          <p:nvPr/>
        </p:nvSpPr>
        <p:spPr>
          <a:xfrm>
            <a:off x="1981080" y="3808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39"/>
          <p:cNvSpPr txBox="1"/>
          <p:nvPr/>
        </p:nvSpPr>
        <p:spPr>
          <a:xfrm>
            <a:off x="228600" y="380880"/>
            <a:ext cx="281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8" name="WordArt 40"/>
          <p:cNvSpPr txBox="1"/>
          <p:nvPr/>
        </p:nvSpPr>
        <p:spPr>
          <a:xfrm>
            <a:off x="533520" y="388620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tool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9" name="Picture 41" descr="book 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38080" y="5029200"/>
            <a:ext cx="121932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397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moose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533520" y="19051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oo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related to the de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5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6" descr="moose"/>
          <p:cNvPicPr/>
          <p:nvPr/>
        </p:nvPicPr>
        <p:blipFill>
          <a:blip r:embed="rId2"/>
          <a:stretch/>
        </p:blipFill>
        <p:spPr>
          <a:xfrm>
            <a:off x="3429000" y="3048120"/>
            <a:ext cx="252720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02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foot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09480" y="1676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by put hi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oo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his mout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0" descr="mouth"/>
          <p:cNvPicPr/>
          <p:nvPr/>
        </p:nvPicPr>
        <p:blipFill>
          <a:blip r:embed="rId2"/>
          <a:stretch/>
        </p:blipFill>
        <p:spPr>
          <a:xfrm>
            <a:off x="3733920" y="2666880"/>
            <a:ext cx="17287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07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457200" y="19051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 many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ook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ave your rea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9" descr="books"/>
          <p:cNvPicPr/>
          <p:nvPr/>
        </p:nvPicPr>
        <p:blipFill>
          <a:blip r:embed="rId2"/>
          <a:stretch/>
        </p:blipFill>
        <p:spPr>
          <a:xfrm>
            <a:off x="3657600" y="3352680"/>
            <a:ext cx="201312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12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h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457200" y="1676520"/>
            <a:ext cx="868680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fish, Dad puts the worm on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oo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ok: a curved or bent tool for catching, holding, or pulling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9" descr="hook"/>
          <p:cNvPicPr/>
          <p:nvPr/>
        </p:nvPicPr>
        <p:blipFill>
          <a:blip r:embed="rId2"/>
          <a:stretch/>
        </p:blipFill>
        <p:spPr>
          <a:xfrm>
            <a:off x="3962520" y="3200400"/>
            <a:ext cx="1504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17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533520" y="1905120"/>
            <a:ext cx="815328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ry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oo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e red ballo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ook: select; choo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9" descr="took"/>
          <p:cNvPicPr/>
          <p:nvPr/>
        </p:nvPicPr>
        <p:blipFill>
          <a:blip r:embed="rId2"/>
          <a:stretch/>
        </p:blipFill>
        <p:spPr>
          <a:xfrm>
            <a:off x="3962520" y="2971800"/>
            <a:ext cx="16477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22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533520" y="1828800"/>
            <a:ext cx="815328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m is a grea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o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ok: one who prepares food for eat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11" descr="cooking"/>
          <p:cNvPicPr/>
          <p:nvPr/>
        </p:nvPicPr>
        <p:blipFill>
          <a:blip r:embed="rId2"/>
          <a:stretch/>
        </p:blipFill>
        <p:spPr>
          <a:xfrm>
            <a:off x="3505320" y="3352680"/>
            <a:ext cx="2450880" cy="15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27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533520" y="17524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t the teacher when she is talking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: to direct one's attention or ey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9" descr="teacher"/>
          <p:cNvPicPr/>
          <p:nvPr/>
        </p:nvPicPr>
        <p:blipFill>
          <a:blip r:embed="rId2"/>
          <a:stretch/>
        </p:blipFill>
        <p:spPr>
          <a:xfrm>
            <a:off x="3657600" y="3048120"/>
            <a:ext cx="2057400" cy="198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32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r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533520" y="17524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the summer, we like to wade in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roo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ok: a small strea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5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8" descr="brook"/>
          <p:cNvPicPr/>
          <p:nvPr/>
        </p:nvPicPr>
        <p:blipFill>
          <a:blip r:embed="rId2"/>
          <a:stretch/>
        </p:blipFill>
        <p:spPr>
          <a:xfrm>
            <a:off x="3886200" y="3048120"/>
            <a:ext cx="142236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book 1"/>
          <p:cNvPicPr/>
          <p:nvPr/>
        </p:nvPicPr>
        <p:blipFill>
          <a:blip r:embed="rId1"/>
          <a:stretch/>
        </p:blipFill>
        <p:spPr>
          <a:xfrm>
            <a:off x="3276720" y="525780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37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r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533520" y="4038480"/>
            <a:ext cx="81532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is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rook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ok: a dishonest pers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533520" y="1828800"/>
            <a:ext cx="81532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line i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rook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ok: curved; b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10" descr="crook"/>
          <p:cNvPicPr/>
          <p:nvPr/>
        </p:nvPicPr>
        <p:blipFill>
          <a:blip r:embed="rId2"/>
          <a:stretch/>
        </p:blipFill>
        <p:spPr>
          <a:xfrm>
            <a:off x="5029200" y="1905120"/>
            <a:ext cx="1676520" cy="13446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2" descr="crook1"/>
          <p:cNvPicPr/>
          <p:nvPr/>
        </p:nvPicPr>
        <p:blipFill>
          <a:blip r:embed="rId3"/>
          <a:stretch/>
        </p:blipFill>
        <p:spPr>
          <a:xfrm>
            <a:off x="1143000" y="3962520"/>
            <a:ext cx="1519200" cy="16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44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hook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457200" y="2057400"/>
            <a:ext cx="81532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adult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hoo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an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ok: to clasp hands in gree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1" descr="shook"/>
          <p:cNvPicPr/>
          <p:nvPr/>
        </p:nvPicPr>
        <p:blipFill>
          <a:blip r:embed="rId2"/>
          <a:stretch/>
        </p:blipFill>
        <p:spPr>
          <a:xfrm>
            <a:off x="3352680" y="3489480"/>
            <a:ext cx="2057400" cy="12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447920" y="182880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oop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472428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hoop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2" name="Picture 4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52480" y="2743200"/>
            <a:ext cx="1219320" cy="59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book 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29200" y="1523880"/>
            <a:ext cx="1219320" cy="5940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6">
            <a:hlinkClick r:id="" action="ppaction://hlinkshowjump?jump=nextslide"/>
          </p:cNvPr>
          <p:cNvSpPr/>
          <p:nvPr/>
        </p:nvSpPr>
        <p:spPr>
          <a:xfrm>
            <a:off x="7696080" y="5715000"/>
            <a:ext cx="144792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7772400" y="4800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rrow to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8"/>
          <p:cNvSpPr txBox="1"/>
          <p:nvPr/>
        </p:nvSpPr>
        <p:spPr>
          <a:xfrm>
            <a:off x="457200" y="464832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roop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7" name="Picture 9" descr="book 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5800" y="5791320"/>
            <a:ext cx="1219320" cy="5936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11"/>
          <p:cNvSpPr txBox="1"/>
          <p:nvPr/>
        </p:nvSpPr>
        <p:spPr>
          <a:xfrm>
            <a:off x="6324480" y="22096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toop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9" name="WordArt 12"/>
          <p:cNvSpPr txBox="1"/>
          <p:nvPr/>
        </p:nvSpPr>
        <p:spPr>
          <a:xfrm>
            <a:off x="3809880" y="35812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coop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0" name="Picture 13" descr="book 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629400" y="3276720"/>
            <a:ext cx="1219320" cy="593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book 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038480" y="4495680"/>
            <a:ext cx="1219320" cy="594000"/>
          </a:xfrm>
          <a:prstGeom prst="rect">
            <a:avLst/>
          </a:prstGeom>
          <a:ln w="0">
            <a:noFill/>
          </a:ln>
        </p:spPr>
      </p:pic>
      <p:sp>
        <p:nvSpPr>
          <p:cNvPr id="122" name="Line 16"/>
          <p:cNvSpPr/>
          <p:nvPr/>
        </p:nvSpPr>
        <p:spPr>
          <a:xfrm>
            <a:off x="1981080" y="3808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17"/>
          <p:cNvSpPr txBox="1"/>
          <p:nvPr/>
        </p:nvSpPr>
        <p:spPr>
          <a:xfrm>
            <a:off x="228600" y="380880"/>
            <a:ext cx="281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49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good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609480" y="16002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opposite of bad i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oo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9" descr="good"/>
          <p:cNvPicPr/>
          <p:nvPr/>
        </p:nvPicPr>
        <p:blipFill>
          <a:blip r:embed="rId2"/>
          <a:stretch/>
        </p:blipFill>
        <p:spPr>
          <a:xfrm>
            <a:off x="3886200" y="3048120"/>
            <a:ext cx="1316160" cy="176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54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hood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33520" y="2057400"/>
            <a:ext cx="815328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yellow jacket has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oo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od: a soft covering for the head and neck often attached to a coat or cape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9" descr="hood"/>
          <p:cNvPicPr/>
          <p:nvPr/>
        </p:nvPicPr>
        <p:blipFill>
          <a:blip r:embed="rId2"/>
          <a:stretch/>
        </p:blipFill>
        <p:spPr>
          <a:xfrm>
            <a:off x="3886200" y="3505320"/>
            <a:ext cx="1676520" cy="14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59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wood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609480" y="1676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ad chop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oo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r the firepla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10" descr="wood"/>
          <p:cNvPicPr/>
          <p:nvPr/>
        </p:nvPicPr>
        <p:blipFill>
          <a:blip r:embed="rId2"/>
          <a:stretch/>
        </p:blipFill>
        <p:spPr>
          <a:xfrm>
            <a:off x="3200400" y="2895480"/>
            <a:ext cx="273672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book 1"/>
          <p:cNvPicPr/>
          <p:nvPr/>
        </p:nvPicPr>
        <p:blipFill>
          <a:blip r:embed="rId1"/>
          <a:stretch/>
        </p:blipFill>
        <p:spPr>
          <a:xfrm>
            <a:off x="3200400" y="5105520"/>
            <a:ext cx="2895480" cy="1409760"/>
          </a:xfrm>
          <a:prstGeom prst="rect">
            <a:avLst/>
          </a:prstGeom>
          <a:ln w="0">
            <a:noFill/>
          </a:ln>
        </p:spPr>
      </p:pic>
      <p:sp>
        <p:nvSpPr>
          <p:cNvPr id="464" name="WordArt 3"/>
          <p:cNvSpPr txBox="1"/>
          <p:nvPr/>
        </p:nvSpPr>
        <p:spPr>
          <a:xfrm>
            <a:off x="3505320" y="38088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tood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457200" y="1676520"/>
            <a:ext cx="815328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oo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s the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National Anthe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su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od: to support oneself on the feet in an erect posi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6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stand"/>
          <p:cNvPicPr/>
          <p:nvPr/>
        </p:nvPicPr>
        <p:blipFill>
          <a:blip r:embed="rId2"/>
          <a:stretch/>
        </p:blipFill>
        <p:spPr>
          <a:xfrm>
            <a:off x="3429000" y="3429000"/>
            <a:ext cx="2362320" cy="14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5"/>
          <p:cNvSpPr/>
          <p:nvPr/>
        </p:nvSpPr>
        <p:spPr>
          <a:xfrm>
            <a:off x="7238880" y="5410080"/>
            <a:ext cx="1600200" cy="1447920"/>
          </a:xfrm>
          <a:prstGeom prst="rightArrow">
            <a:avLst>
              <a:gd name="adj1" fmla="val 50000"/>
              <a:gd name="adj2" fmla="val 2762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WordArt 6"/>
          <p:cNvSpPr txBox="1"/>
          <p:nvPr/>
        </p:nvSpPr>
        <p:spPr>
          <a:xfrm>
            <a:off x="1676520" y="1905120"/>
            <a:ext cx="5410080" cy="19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The End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457200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rr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5"/>
          <p:cNvSpPr txBox="1"/>
          <p:nvPr/>
        </p:nvSpPr>
        <p:spPr>
          <a:xfrm>
            <a:off x="762120" y="182880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loom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5" name="WordArt 7"/>
          <p:cNvSpPr txBox="1"/>
          <p:nvPr/>
        </p:nvSpPr>
        <p:spPr>
          <a:xfrm>
            <a:off x="6705720" y="205740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room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6" name="WordArt 8"/>
          <p:cNvSpPr txBox="1"/>
          <p:nvPr/>
        </p:nvSpPr>
        <p:spPr>
          <a:xfrm>
            <a:off x="3048120" y="4191120"/>
            <a:ext cx="19047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groom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7" name="WordArt 10"/>
          <p:cNvSpPr txBox="1"/>
          <p:nvPr/>
        </p:nvSpPr>
        <p:spPr>
          <a:xfrm>
            <a:off x="4038480" y="99072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room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8" name="Picture 16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191120" y="2209680"/>
            <a:ext cx="1218960" cy="59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book 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010280" y="3352680"/>
            <a:ext cx="1219320" cy="59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book 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990720" y="2971800"/>
            <a:ext cx="1218960" cy="593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book 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276720" y="5029200"/>
            <a:ext cx="1218960" cy="5936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22">
            <a:hlinkClick r:id="" action="ppaction://hlinkshowjump?jump=nextslide"/>
          </p:cNvPr>
          <p:cNvSpPr/>
          <p:nvPr/>
        </p:nvSpPr>
        <p:spPr>
          <a:xfrm>
            <a:off x="7696080" y="5715000"/>
            <a:ext cx="144792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6248520" y="5638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rrow to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1981080" y="3808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29"/>
          <p:cNvSpPr txBox="1"/>
          <p:nvPr/>
        </p:nvSpPr>
        <p:spPr>
          <a:xfrm>
            <a:off x="228600" y="380880"/>
            <a:ext cx="281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6"/>
          <p:cNvSpPr txBox="1"/>
          <p:nvPr/>
        </p:nvSpPr>
        <p:spPr>
          <a:xfrm>
            <a:off x="6781680" y="213372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moon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7" name="WordArt 7"/>
          <p:cNvSpPr txBox="1"/>
          <p:nvPr/>
        </p:nvSpPr>
        <p:spPr>
          <a:xfrm>
            <a:off x="4038480" y="914400"/>
            <a:ext cx="12956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noon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38" name="Picture 11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3429000"/>
            <a:ext cx="1219320" cy="593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book 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2133720"/>
            <a:ext cx="1219320" cy="5936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4">
            <a:hlinkClick r:id="" action="ppaction://hlinkshowjump?jump=nextslide"/>
          </p:cNvPr>
          <p:cNvSpPr/>
          <p:nvPr/>
        </p:nvSpPr>
        <p:spPr>
          <a:xfrm>
            <a:off x="7696080" y="5715000"/>
            <a:ext cx="144792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6248520" y="5638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rrow to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1981080" y="3808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17"/>
          <p:cNvSpPr txBox="1"/>
          <p:nvPr/>
        </p:nvSpPr>
        <p:spPr>
          <a:xfrm>
            <a:off x="228600" y="380880"/>
            <a:ext cx="281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4" name="WordArt 18"/>
          <p:cNvSpPr txBox="1"/>
          <p:nvPr/>
        </p:nvSpPr>
        <p:spPr>
          <a:xfrm>
            <a:off x="1143000" y="2286000"/>
            <a:ext cx="1295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oon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45" name="Picture 19" descr="book 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143000" y="3429000"/>
            <a:ext cx="1219320" cy="593640"/>
          </a:xfrm>
          <a:prstGeom prst="rect">
            <a:avLst/>
          </a:prstGeom>
          <a:ln w="0">
            <a:noFill/>
          </a:ln>
        </p:spPr>
      </p:pic>
      <p:sp>
        <p:nvSpPr>
          <p:cNvPr id="146" name="WordArt 20"/>
          <p:cNvSpPr txBox="1"/>
          <p:nvPr/>
        </p:nvSpPr>
        <p:spPr>
          <a:xfrm>
            <a:off x="4038480" y="4267080"/>
            <a:ext cx="1600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poon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47" name="Picture 21" descr="book 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191120" y="5257800"/>
            <a:ext cx="121896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3"/>
          <p:cNvSpPr txBox="1"/>
          <p:nvPr/>
        </p:nvSpPr>
        <p:spPr>
          <a:xfrm>
            <a:off x="4191120" y="388620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oose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4343400" y="121932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goose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0" name="WordArt 6"/>
          <p:cNvSpPr txBox="1"/>
          <p:nvPr/>
        </p:nvSpPr>
        <p:spPr>
          <a:xfrm>
            <a:off x="609480" y="2057400"/>
            <a:ext cx="1704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moose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51" name="Picture 7" descr="book 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95680" y="5105520"/>
            <a:ext cx="1219320" cy="593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book 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48320" y="2209680"/>
            <a:ext cx="1218960" cy="59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book 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914400" y="3276720"/>
            <a:ext cx="1219320" cy="59364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2">
            <a:hlinkClick r:id="" action="ppaction://hlinkshowjump?jump=nextslide"/>
          </p:cNvPr>
          <p:cNvSpPr/>
          <p:nvPr/>
        </p:nvSpPr>
        <p:spPr>
          <a:xfrm>
            <a:off x="7696080" y="5715000"/>
            <a:ext cx="144792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7772400" y="4800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rrow to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22"/>
          <p:cNvSpPr txBox="1"/>
          <p:nvPr/>
        </p:nvSpPr>
        <p:spPr>
          <a:xfrm>
            <a:off x="228600" y="380880"/>
            <a:ext cx="281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o (oo)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7" name="Line 24"/>
          <p:cNvSpPr/>
          <p:nvPr/>
        </p:nvSpPr>
        <p:spPr>
          <a:xfrm>
            <a:off x="1981080" y="3808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23:09:47Z</dcterms:created>
  <dc:creator>Sue Ann</dc:creator>
  <dc:description/>
  <dc:language>en-US</dc:language>
  <cp:lastModifiedBy>teacher</cp:lastModifiedBy>
  <dcterms:modified xsi:type="dcterms:W3CDTF">2011-01-07T22:16:35Z</dcterms:modified>
  <cp:revision>59</cp:revision>
  <dc:subject/>
  <dc:title>Slide 1</dc:title>
</cp:coreProperties>
</file>